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0A66-4D67-45B2-BD77-17759AF93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C21A-60A1-439B-BA56-5E5796D89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A48C-6573-43D9-BA9C-C790A2818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39A6-4F00-4448-8603-520E4CC12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01D3-ABBD-4186-8F28-AD3E970DC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E36D-2BA5-4A4B-AA95-69889E984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B6E7-16DA-463C-819D-6AA1C0CFC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E63D-0023-4447-9CA1-B00F54B0F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D1FD-428D-4E0E-8B11-B1E2643E9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EDD0-B763-4466-BAC5-54BD9C34E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621D-E129-4E8A-AB58-2AC275D2B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7AC7-01F5-456F-B5D9-701BE979B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B26FE-29EB-40C8-B1D5-8C4969C86A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PO</a:t>
            </a: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ZIŢII COMPU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14400" y="419112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 de </a:t>
            </a: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ogică şi argumentare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clasa a IX-a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Elena Lupşa, Victor Bratu, Maria Dorina Stoic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4"/>
          <p:cNvSpPr/>
          <p:nvPr/>
        </p:nvSpPr>
        <p:spPr>
          <a:xfrm>
            <a:off x="533520" y="6248520"/>
            <a:ext cx="2571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Sesiunea iunie - iul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30800" y="3107880"/>
            <a:ext cx="228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Sesiunea iunie - iu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8"/>
          <p:cNvSpPr/>
          <p:nvPr/>
        </p:nvSpPr>
        <p:spPr>
          <a:xfrm>
            <a:off x="533520" y="380880"/>
            <a:ext cx="4876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ba de evaluare a competenţelor digitale – document de lucr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0"/>
          <p:cNvSpPr/>
          <p:nvPr/>
        </p:nvSpPr>
        <p:spPr>
          <a:xfrm>
            <a:off x="533520" y="914400"/>
            <a:ext cx="449568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imba  naturală conţine expresii lingvistice care nu pot fi formalizat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[...], în cadrul unei logici a termenilor şi prin intermediul propoziţiilor categorice. O expresie propoziţională precum: - Dacă este prea frig, nu voi merge la plimbare - nu poate fi abordată ca o propoziţie categorică, în acest sens fiind creată o altă logică numită fie „logică propoziţională”, fie „logica propoziţiilor compuse”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umele de „propoziţie compusă”, provine de la faptul că în structura unei propoziţii compuse se pot pune în evidenţă cel puţin o propoziţie simplă şi cel puţin o constantă logică. [..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opoziţiile compuse se obţin aplicând anumite operaţii logice la propoziţiile simple, iar mai precis este vorba de a aplica aceste operaţii la valoarea de adevăr a propoziţiilor simple.  De aceea, propoziţiile compuse sunt tratate ca funcţii de adevăr, respectiv valoarea de adevăr a unei propoziţii compuse depinde de valoarea de adevăr a propoziţiilor simple. [...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limbile naturale, mecanismul negării este neuniform, respectiv modul de construire a negaţiei unei propoziţii este în funcţie de forma logico-lingvistică pe care propoziţia o are deja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stfel, propoziţia negativă „Nu p” este echivalentă, în esenţă, cu „Nu este adevărat că p”, dar, în anumite contexte, diferenţa dintre cele două moduri de exprimare este evidentă. [...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hiar dacă din punct de vedere gramatical se spune despre conjuncţie că leagă părţi de propoziţie, din punct de vedere logic este vorba de legarea a două propoziţii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u toate acestea, conjuncţia gramaticală „şi” nu îndeplineşte întotdeauna rolul unei conjuncţii logice. [...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2" descr="comp_i"/>
          <p:cNvPicPr/>
          <p:nvPr/>
        </p:nvPicPr>
        <p:blipFill>
          <a:blip r:embed="rId1"/>
          <a:stretch/>
        </p:blipFill>
        <p:spPr>
          <a:xfrm>
            <a:off x="5791320" y="1981080"/>
            <a:ext cx="2676240" cy="26766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533520" y="380880"/>
            <a:ext cx="4876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ba de evaluare a competenţelor digitale – document de lucr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533520" y="1295280"/>
            <a:ext cx="761976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oprietăţile principalilor operatori propoziţional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egaţ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incipiul terţului exclus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incipiul noncontradicţie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egea dublei negaţi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njuncţ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dempotenţa conjuncţie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ntragerea conjuncţie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mutativitatea conjuncţie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sociativitatea conjuncţie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mplicaţ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ranzitivitatea implicaţie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ntrapoziţia implicaţie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istributivitatea implicaţiei faţă de conjuncţi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istributivitatea implicaţiei faţă de disjuncţi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11a3</cp:lastModifiedBy>
  <dcterms:modified xsi:type="dcterms:W3CDTF">2012-06-18T10:57:20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